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C75-A39E-4E43-9B1F-FC50DFE0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F64-E54C-4ADE-8263-A211765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122-15E4-429C-ACE4-75A46B6F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99F-04CD-4090-B9EA-B29CFF1F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BA3-033B-40EA-BDAF-CF124DCB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03D3-917E-4AC5-ABB1-4770374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439-3421-440C-BCA8-4E45BC7E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F9F4-41D9-4B5F-9F6D-333D9012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040F-CA84-4AD5-8953-3AAB4CA9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74D-EEF1-40F4-AB7D-9561B56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B3D-6D42-4D9A-BC1B-A602553A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592-0150-40FF-8262-4F11631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C12-7AD5-450E-87BC-0FF74D36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3FF-EA21-4AE1-B3FB-87DF8F3D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24E6-F12F-4D07-AE7F-A1E252AE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085F-3E20-4A72-914A-975C5AD7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DC4-2719-4FCB-B2AD-26F25A6D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3DA-3B81-4549-BB69-E0A7772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241-523A-4A60-BFE0-5F559E1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A1B-EF6A-4172-8D1F-D637A782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C1C-AE02-402C-B09C-E9D828B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8F-738B-422A-9950-03FC5C6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CC9-8EFD-42E8-8E5F-BA964B1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DCE-B9AC-4BB6-9DF8-93812E5F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6F0-C1A4-4B45-812A-C99AA35DBA5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EF28-D44E-4ECF-8C02-6CF6BD7BAC2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340000" y="692280"/>
            <a:ext cx="432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安全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421800">
            <a:off x="2282400" y="3432240"/>
            <a:ext cx="4478400" cy="194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securit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6360" y="1773360"/>
            <a:ext cx="6932520" cy="3311280"/>
            <a:chOff x="1476360" y="1773360"/>
            <a:chExt cx="6932520" cy="3311280"/>
          </a:xfrm>
        </p:grpSpPr>
        <p:sp>
          <p:nvSpPr>
            <p:cNvPr id="112" name=""/>
            <p:cNvSpPr/>
            <p:nvPr/>
          </p:nvSpPr>
          <p:spPr>
            <a:xfrm>
              <a:off x="1476360" y="1773360"/>
              <a:ext cx="69325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3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《道路交通管理条例》第六条规定：驾驶车辆，赶、骑牲畜必须遵守靠        通行的原则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4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不满      岁的少年儿童不宜骑自行车</a:t>
              </a:r>
              <a:r>
                <a:rPr b="0" lang="zh-CN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360" y="3716280"/>
              <a:ext cx="936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5084640"/>
              <a:ext cx="936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1773360"/>
            <a:ext cx="6932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《道路交通管理条例》第六条规定：驾驶车辆，赶、骑牲畜必须遵守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右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通行的原则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不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的少年儿童不宜骑自行车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84720" y="1844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交通肇事电话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65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6720" y="429264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35480" y="2060640"/>
            <a:ext cx="419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电话报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35733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32000" y="1700280"/>
            <a:ext cx="6769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交通图标大家认一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47236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35120" y="5738760"/>
            <a:ext cx="347688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禁止行人通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537080" cy="4471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32760" y="508464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车辆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时或长时停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519120"/>
            <a:ext cx="4608360" cy="4541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71280" y="525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驶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46240" y="4946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限制速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5667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73436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35280" y="1393920"/>
            <a:ext cx="4681440" cy="348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95800" y="5595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非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79640" y="1773360"/>
            <a:ext cx="35067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说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836640"/>
            <a:ext cx="815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行车行驶“七不准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弯时须减速慢行，前后注意，伸手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突然猛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超越前车时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被超车的正常行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陡坡，横过四条以上机动车道或途中车闸失效时，须下车推行。下车前须伸手上下摆动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后面的车辆行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双手不准离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攀扶其他车辆或手中持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牵引车辆或被其他车辆牵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扶身并行，互相追逐或曲折竞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行车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人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54160"/>
            <a:ext cx="852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人行走的安全区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有人行道的道路上，除道路施工不能通行外，行人必须在人行道上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没有人行道的道路上，要靠右侧的路边行走。按道路设计标准规定，一人通行道路所需活动空间的宽度：行人徒手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，手提负荷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。行人在路边没有遇到不利的地形、地物时，在上述活动空间内行走的，应认为是靠路边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步行街上，行人可在道路中央行走，但有时步行街还有车辆通行，所以在步行街上行走也要注意来往车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速道路、汽车专用道路禁止行人进入。其他禁止行人进入的道路上，设有禁止行人通行标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2924280"/>
            <a:ext cx="619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珍惜生命重视交通安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91200" cy="645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14172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-383400" y="305676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64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国每年交通事故死亡人数超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万人 居世界第一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的道路交通安全形势非常严峻，统计数据表明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就有一人丧身车轮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都会有一人因为交通事故而伤残。每年因交通事故所造成的经济损失达数百亿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95480" y="2008080"/>
            <a:ext cx="7724520" cy="2357640"/>
            <a:chOff x="1095480" y="2008080"/>
            <a:chExt cx="7724520" cy="2357640"/>
          </a:xfrm>
        </p:grpSpPr>
        <p:sp>
          <p:nvSpPr>
            <p:cNvPr id="93" name=""/>
            <p:cNvSpPr/>
            <p:nvPr/>
          </p:nvSpPr>
          <p:spPr>
            <a:xfrm>
              <a:off x="1095480" y="2008080"/>
              <a:ext cx="7724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1.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我国交通标志分为四种：禁止标志用            ；警告标志用               ；指示标志用              ；提示标志用        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.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6360" y="321300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0920" y="371628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4365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732720" y="4437000"/>
            <a:ext cx="158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4365720"/>
            <a:ext cx="158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628640"/>
            <a:ext cx="707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我国交通标志分为四种：禁止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警告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黄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指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蓝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提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360" y="1406520"/>
            <a:ext cx="8085240" cy="3606840"/>
            <a:chOff x="468360" y="1406520"/>
            <a:chExt cx="8085240" cy="3606840"/>
          </a:xfrm>
        </p:grpSpPr>
        <p:sp>
          <p:nvSpPr>
            <p:cNvPr id="103" name=""/>
            <p:cNvSpPr/>
            <p:nvPr/>
          </p:nvSpPr>
          <p:spPr>
            <a:xfrm>
              <a:off x="468360" y="1406520"/>
              <a:ext cx="808524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(2)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行人横过有人行横道灯的人行横道时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须遵守          的规定。          ．准许行人通过人行横道线；     ，不准行人进入人行横道，但已进入人行横道的，可以继续通行；     ，不准行人进入人行横道。</a:t>
              </a:r>
              <a:r>
                <a:rPr b="0" lang="zh-CN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84360" y="3141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14172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8720" y="386064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501336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6520"/>
            <a:ext cx="8085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行人横过有人行横道灯的人行横道时 须遵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人行横道灯信号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规定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．准许行人通过人行横道线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闪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，但已进入人行横道的，可以继续通行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3:27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7:33Z</dcterms:modified>
  <cp:revision>4</cp:revision>
  <dc:subject>主题班会课件(分28大类): http://shop62905894.taobao.com</dc:subject>
  <dc:title>主题班会课件(分28大类): http://shop62905894.taobao.com</dc:title>
</cp:coreProperties>
</file>